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2.jpeg" ContentType="image/jpeg"/>
  <Override PartName="/ppt/media/image11.png" ContentType="image/pn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jpeg" ContentType="image/jpeg"/>
  <Override PartName="/ppt/media/image4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0C2-6D51-4D55-8DBC-61B37D6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FDE-B4C3-4BC7-A2A2-C1D97B10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852AE-EBCC-4782-A929-F9D8243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23E5-E304-47BD-8F30-EFCB9ABD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98696-811D-48B5-ABB1-6CB21B9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824E-6541-4773-B423-C790CF1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7A67C-BB43-4E67-A847-C7F369B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42B2-6A40-49A8-94C1-8B720E6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AE6BF-391B-4B5B-80C0-65A1BA6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9919-DE93-4C0A-911A-3DD4384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88893-BF4B-472F-BA5E-B7426725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F64-546C-44D5-B1B6-18022920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F1D-042C-4350-95E7-CE79C144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4B3-53D7-4BB9-83A6-863AE802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332-223F-477A-969E-C18FD13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8E6D-978B-4128-97E7-DB3837E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C48-57B4-4D62-8CA7-03900CCD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F2C-EFB3-4FBF-BBAF-CDD885E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5B0-9D2A-49A8-AA70-99559CE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FAF4-9940-4E08-932D-FF5E4137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077-60BB-41F4-9D8B-2250A5BA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292-1627-4849-99D2-184CAE6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975D-B548-4D1C-958F-4C63048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D869-586A-4F2D-BDAB-837221CD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6BD5-CB59-4B4E-8B13-7C884C61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8B1-A3C7-4027-9F6E-8AFA3A7B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E552-589B-43A3-B9BE-4CA8FFCA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99AD-F415-4FC2-A349-C15E8AA7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6271-9D79-4755-875D-1956CBB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3E51-91B2-4B38-A941-2D7371D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ABDD-C4C8-4CDF-8FB4-3B33097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41F-5D51-4417-A24C-1E8AB0F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7BD0-614C-4197-8977-F500FA22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C801-464C-4A11-BC54-4B9C5FD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96D7-A62E-4397-83B3-5BD59A4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0E4C-687C-4EE5-B69D-021C1D4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15B5-F813-412A-880C-1F4716D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AB86-D5B1-4E2A-84EB-3FB665BD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7846-27AC-429A-B94C-B189C911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AEA8-117A-4D7B-9933-ED5F248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28E1-3F07-4FF5-9C7B-88DFE65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570C-E571-4800-AF00-C302BE6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F2C-D232-40CC-9B5A-33A6F36F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1F9E-9A17-4209-8474-A1F2B284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5E95-4ED8-4673-8452-4363A34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54DE-14E7-4F7B-8B4E-D59D2656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CAFC-9C70-4A1C-9595-633AC9C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3D82-86DD-40DE-9216-CAA7C51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3B1F-5219-452E-B878-CE4FE76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183A-7C07-492F-9EE6-EC77F3C6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2A15-3736-483B-897B-66F68477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F62D-EB12-4C3B-8DE7-CC56192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4802-3A14-4D87-B20B-6D5E9C58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E90-69DA-4698-B9E2-CC1976A5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45556-B3C2-4E8F-8011-3DDEECF2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464F-EBF0-44E9-826C-C22732FF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E736-CDCA-4980-BA59-F2F437C4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45C56-CE0C-4CBE-B349-8BB308E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C211-408E-40D8-AD26-593259FA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5565-C6CC-4EAC-9839-BFC6844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B942-9BB2-4670-9C39-FA44C344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FA10-C24A-4067-9441-D0D6066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1336D-30DC-4657-B1AE-6FE7289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C54D-547E-4133-AD4E-F94D771B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903-A041-4171-AC83-C9CCCDB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C7FB-E5D0-4D61-85B5-DC6876D2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BFC0-FBA0-4F66-B9BF-A2C6C117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E842-BBE2-48CD-8F6F-986F6056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652D9-2907-4458-9362-93082A2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514D-BBA4-4E1D-8F33-F3A033A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16DD-5F08-4758-87DD-D3A3FDC3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8F31-E5D0-43D3-9FC2-3DF119F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E359-761B-4F98-A277-13EAAF4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2497-5F12-430A-8E29-AF103B8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A73D-60D0-4B68-8752-2AB49B3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310-88AB-4221-9A4B-09025F1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A4827-EE9E-4C60-9749-40F204B8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39C1-455A-4410-82AC-EE96076B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FB9B-935B-45F3-B2C2-4AA09361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BA83C-ECEC-4511-AE82-EDFF09E7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1851-7D47-42AC-B926-9FA1F95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DB4C-BA91-490C-93F1-1D43F05B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555E9-D9F3-4A33-B7D7-87B42FE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E278-A029-43D1-9502-8CBB9EC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3E95-CFC8-4F08-8FCF-C61B2D5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6B9D-F99A-43BA-9FC4-0A00712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48D-76B8-424A-BE76-776E085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0F86-D59A-46DA-8B91-D9C5CC42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6ABBD-457C-40B2-882D-ECC8A82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B14E-5812-4158-9392-DBBD337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1511-FBDA-4EB0-894F-37DA70B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9352-1F64-426D-A94D-2F56427D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FDDB-A1E9-480C-949C-8DEF02F5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8360-C169-4142-A0EF-1659556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4B2AF-678F-4B07-A74F-5BC8E5B3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3EBD-7724-4049-9BFE-0F1A1593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230F-3E49-4B42-8F3C-C1DA82F8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F69-BE9C-4333-BEF3-0C00331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FBD06-BF6F-4EA2-9D24-1F576FB6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8D34-D372-4DD2-B05B-2E56C54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70F9-0236-4893-A708-9ADA05B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9888-4559-4E66-907C-4C88A8C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5BB8-39C8-4565-B9AE-FA6EB3D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3A24-36EE-49DF-9BDA-F2D4CE31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3440-B28D-4BDC-8CEC-A16CD7D2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E5E1-1D06-43C0-B9FC-D975DBD2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BBF6-BF07-4C47-9C47-7DD39D8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358DC-9F73-4096-BB1B-402FA57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9A2-4DA6-4ABB-A279-A5A03770BC08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ED8-32BE-456C-AD4B-9A60D80DE846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BF11-48BB-471A-A242-6D1EA538060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B9B-9C3C-4777-8CF8-6E2D1016F987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ED9-5DB1-43E3-A299-3FA36D30370D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F640-DEC8-4C0E-BBB9-1412048107F8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C52-7BFB-4174-AA8C-C7C05C4F97E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A2D1-606E-4881-815F-F2DF0E41412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D3C9-3A09-4660-946F-14778143BCE1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749160"/>
            <a:ext cx="8254800" cy="3346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Profª Moisés Rodrigo G dos San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www.quimicopolar.wikispac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2002-71-132-52-i004"/>
          <p:cNvPicPr/>
          <p:nvPr/>
        </p:nvPicPr>
        <p:blipFill>
          <a:blip r:embed="rId2"/>
          <a:stretch/>
        </p:blipFill>
        <p:spPr>
          <a:xfrm>
            <a:off x="468360" y="1143000"/>
            <a:ext cx="8675640" cy="4309920"/>
          </a:xfrm>
          <a:prstGeom prst="rect">
            <a:avLst/>
          </a:prstGeom>
          <a:ln w="0">
            <a:noFill/>
          </a:ln>
        </p:spPr>
      </p:pic>
      <p:sp>
        <p:nvSpPr>
          <p:cNvPr id="426" name="Retângulo 6"/>
          <p:cNvSpPr/>
          <p:nvPr/>
        </p:nvSpPr>
        <p:spPr>
          <a:xfrm>
            <a:off x="428760" y="5769000"/>
            <a:ext cx="871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Portanto, quanto maior o número de partículas do soluto em solução, maior o abaixamento da pressão máxima de vapor e menor a pressão de vapor do solv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Botão de ação: Filme 4"/>
          <p:cNvSpPr/>
          <p:nvPr/>
        </p:nvSpPr>
        <p:spPr>
          <a:xfrm>
            <a:off x="3564000" y="2781360"/>
            <a:ext cx="1571400" cy="785880"/>
          </a:xfrm>
          <a:custGeom>
            <a:avLst/>
            <a:gdLst>
              <a:gd name="textAreaLeft" fmla="*/ 50760 w 1571400"/>
              <a:gd name="textAreaRight" fmla="*/ 1520640 w 15714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4" y="7301"/>
                </a:moveTo>
                <a:lnTo>
                  <a:pt x="15498" y="7301"/>
                </a:lnTo>
                <a:lnTo>
                  <a:pt x="15880" y="7667"/>
                </a:lnTo>
                <a:lnTo>
                  <a:pt x="25089" y="7667"/>
                </a:lnTo>
                <a:lnTo>
                  <a:pt x="25646" y="8224"/>
                </a:lnTo>
                <a:lnTo>
                  <a:pt x="25646" y="8772"/>
                </a:lnTo>
                <a:lnTo>
                  <a:pt x="27491" y="8772"/>
                </a:lnTo>
                <a:lnTo>
                  <a:pt x="27857" y="8224"/>
                </a:lnTo>
                <a:lnTo>
                  <a:pt x="28597" y="8224"/>
                </a:lnTo>
                <a:lnTo>
                  <a:pt x="28597" y="13376"/>
                </a:lnTo>
                <a:lnTo>
                  <a:pt x="27857" y="13376"/>
                </a:lnTo>
                <a:lnTo>
                  <a:pt x="27491" y="12828"/>
                </a:lnTo>
                <a:lnTo>
                  <a:pt x="25646" y="12828"/>
                </a:lnTo>
                <a:lnTo>
                  <a:pt x="25646" y="14107"/>
                </a:lnTo>
                <a:lnTo>
                  <a:pt x="16063" y="14107"/>
                </a:lnTo>
                <a:lnTo>
                  <a:pt x="16063" y="9877"/>
                </a:lnTo>
                <a:lnTo>
                  <a:pt x="15880" y="9877"/>
                </a:lnTo>
                <a:lnTo>
                  <a:pt x="15498" y="10243"/>
                </a:lnTo>
                <a:lnTo>
                  <a:pt x="14584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Temperatura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A pressão de vapor aumenta como aumento d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Natureza do Soluto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Cada líquido apresenta uma pressão de vapor característica numa mesm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a elevação da temperatura de ebulição de um líquido, por meio da adição de um soluto não 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máxima de vapor do solvente, devido à adição de um soluto, leva inevitavelmente ao </a:t>
            </a:r>
            <a:r>
              <a:rPr b="1" lang="pt-BR" sz="3200" spc="-1" strike="noStrike">
                <a:solidFill>
                  <a:srgbClr val="4e3b30"/>
                </a:solidFill>
                <a:latin typeface="Franklin Gothic Book"/>
              </a:rPr>
              <a:t>aumento da temperatura de ebuli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371448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Franklin Gothic Book"/>
              </a:rPr>
              <a:t>Quanto maior a concentração do soluto, maior a elevação da temperatura de ebulição do solvente e maior a temperatura de ebulição do mesm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2" descr="http://www.profpc.com.br/2002-71-132-53-i001.jpg"/>
          <p:cNvPicPr/>
          <p:nvPr/>
        </p:nvPicPr>
        <p:blipFill>
          <a:blip r:embed="rId1"/>
          <a:stretch/>
        </p:blipFill>
        <p:spPr>
          <a:xfrm>
            <a:off x="1000080" y="285840"/>
            <a:ext cx="6521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Botão de ação: Filme 4"/>
          <p:cNvSpPr/>
          <p:nvPr/>
        </p:nvSpPr>
        <p:spPr>
          <a:xfrm>
            <a:off x="2843280" y="1484280"/>
            <a:ext cx="3529080" cy="2808360"/>
          </a:xfrm>
          <a:custGeom>
            <a:avLst/>
            <a:gdLst>
              <a:gd name="textAreaLeft" fmla="*/ 181800 w 3529080"/>
              <a:gd name="textAreaRight" fmla="*/ 3347280 w 352908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43" h="21600">
                <a:moveTo>
                  <a:pt x="6565" y="7301"/>
                </a:moveTo>
                <a:lnTo>
                  <a:pt x="7479" y="7301"/>
                </a:lnTo>
                <a:lnTo>
                  <a:pt x="7862" y="7667"/>
                </a:lnTo>
                <a:lnTo>
                  <a:pt x="17070" y="7667"/>
                </a:lnTo>
                <a:lnTo>
                  <a:pt x="17627" y="8224"/>
                </a:lnTo>
                <a:lnTo>
                  <a:pt x="17627" y="8772"/>
                </a:lnTo>
                <a:lnTo>
                  <a:pt x="19472" y="8772"/>
                </a:lnTo>
                <a:lnTo>
                  <a:pt x="19838" y="8224"/>
                </a:lnTo>
                <a:lnTo>
                  <a:pt x="20578" y="8224"/>
                </a:lnTo>
                <a:lnTo>
                  <a:pt x="20578" y="13376"/>
                </a:lnTo>
                <a:lnTo>
                  <a:pt x="19838" y="13376"/>
                </a:lnTo>
                <a:lnTo>
                  <a:pt x="19472" y="12828"/>
                </a:lnTo>
                <a:lnTo>
                  <a:pt x="17627" y="12828"/>
                </a:lnTo>
                <a:lnTo>
                  <a:pt x="17627" y="14107"/>
                </a:lnTo>
                <a:lnTo>
                  <a:pt x="8044" y="14107"/>
                </a:lnTo>
                <a:lnTo>
                  <a:pt x="8044" y="9877"/>
                </a:lnTo>
                <a:lnTo>
                  <a:pt x="7862" y="9877"/>
                </a:lnTo>
                <a:lnTo>
                  <a:pt x="7479" y="10243"/>
                </a:lnTo>
                <a:lnTo>
                  <a:pt x="6565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o abaixamento da temperatura de congelação de um líquido, por meio da adição de um solu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de vapor do solvente, devido à adição de um soluto, leva à diminuição da temperatura de congelamen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uma temperatura e uma pressão nas quais as fases sólida, líquida e gasosa coexist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e3b30"/>
                </a:solidFill>
                <a:latin typeface="Franklin Gothic Book"/>
              </a:rPr>
              <a:t>http://www.mspc.eng.br/tecdiv/im01/agua_diagr_est1.gif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Picture 5" descr="agua_diagr_est1"/>
          <p:cNvPicPr/>
          <p:nvPr/>
        </p:nvPicPr>
        <p:blipFill>
          <a:blip r:embed="rId2"/>
          <a:stretch/>
        </p:blipFill>
        <p:spPr>
          <a:xfrm>
            <a:off x="1258920" y="2421000"/>
            <a:ext cx="6192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5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Figura ilustra o ponto triplo. Gelo (iceberg) coexistindo com o líquido no qual flutua, e com a fase gasosa (ar e vapor de água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Picture 4" descr="Quimica_TD_fig03"/>
          <p:cNvPicPr/>
          <p:nvPr/>
        </p:nvPicPr>
        <p:blipFill>
          <a:blip r:embed="rId2"/>
          <a:stretch/>
        </p:blipFill>
        <p:spPr>
          <a:xfrm>
            <a:off x="971640" y="1628640"/>
            <a:ext cx="3322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enômeno da disseminação espontânea entre um líquido em outro e vice-vers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fusão de um líquido para outro através de membranas semipermeáveis recebe o nome de OSM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539640" y="476280"/>
            <a:ext cx="81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m dos assuntos que são freqüentemente abordados nos exames vestibulares do país são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pt-BR" sz="2000" spc="-1" strike="noStrike">
                <a:solidFill>
                  <a:srgbClr val="ff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 sua aplicação está em um dos principais laboratórios de química que você conhece :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468360" y="314172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ão propriedades que estão intimamente relacionadas com o número de partículas de um soluto dispersas em uma solução.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Quando adiciona-se sal de cozinha, (NaCl) á água fervente nota-se que a fervura imediatamente pár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or quê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tângulo 3"/>
          <p:cNvSpPr/>
          <p:nvPr/>
        </p:nvSpPr>
        <p:spPr>
          <a:xfrm>
            <a:off x="4184640" y="2357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Tahoma"/>
              </a:rPr>
              <a:t>A COZINHA</a:t>
            </a: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Retângulo 3"/>
          <p:cNvSpPr/>
          <p:nvPr/>
        </p:nvSpPr>
        <p:spPr>
          <a:xfrm>
            <a:off x="428760" y="4786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Quanto maior a concentração do soluto, maior o abaixamento da temperatura de congelamento do solvente e menor a temperatura de congelamento do me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714240" y="3005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 Crioscopico do sal no Ponto de Solidificação da água: à direita água pura com Ponto de Solidificação de 0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 e a esquerda água e sal com Ponto de Solidificação de -18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2" descr="http://www.profpc.com.br/Foto_acquasale.jpg"/>
          <p:cNvPicPr/>
          <p:nvPr/>
        </p:nvPicPr>
        <p:blipFill>
          <a:blip r:embed="rId1"/>
          <a:stretch/>
        </p:blipFill>
        <p:spPr>
          <a:xfrm>
            <a:off x="1643040" y="428760"/>
            <a:ext cx="5229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8001000" cy="28083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571680" y="2142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OSM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fenômeno que permite a passagem do solvente d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diluí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para 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concentra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tângulo 4"/>
          <p:cNvSpPr/>
          <p:nvPr/>
        </p:nvSpPr>
        <p:spPr>
          <a:xfrm>
            <a:off x="285840" y="5214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smose é a passagem de um solvente para o interior de uma solução feita desse mesmo solvente, através de uma membrana semipermeável (MSP). A osmose também é uma propriedade coligativa da solução, pois depende do número de partículas dissolv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43383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609480" y="380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Verdana"/>
              </a:rPr>
              <a:t>Análise microscóp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ÁGUA PURA  (P</a:t>
            </a:r>
            <a:r>
              <a:rPr b="0" lang="pt-BR" sz="3200" spc="-1" strike="noStrike" baseline="-25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) É MAIOR QUE A DA ÁGUA NA SOLUÇÃO (P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ÁGUA SE DESLOCA DE UMA REGIÃO MENOS CONCETRADA PARA UMA REGIÃO MAIS CONCENTRA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955000" cy="5429160"/>
          </a:xfrm>
          <a:prstGeom prst="rect">
            <a:avLst/>
          </a:prstGeom>
          <a:ln w="0">
            <a:noFill/>
          </a:ln>
        </p:spPr>
      </p:pic>
      <p:sp>
        <p:nvSpPr>
          <p:cNvPr id="465" name="Retângulo 6"/>
          <p:cNvSpPr/>
          <p:nvPr/>
        </p:nvSpPr>
        <p:spPr>
          <a:xfrm>
            <a:off x="3571920" y="3429000"/>
            <a:ext cx="53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Tahoma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A membrana semipermeável (MSP), que pode ser feita de bexiga de animal ou celofane, é seletiva, ou seja, deixa passar o solvente, mas não deixa passar o sol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Observa-se que o nível do solvente diminui após um certo tempo, enquanto o nível da solução aum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2"/>
          <a:stretch/>
        </p:blipFill>
        <p:spPr>
          <a:xfrm>
            <a:off x="0" y="1125360"/>
            <a:ext cx="5832360" cy="3186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754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mínima pressão externa que deve ser aplicada à solução quando separada do seu solvente puro para impedir a osmo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Pressão osmótica depende da concentração da solu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corre quando se aplica uma pressão no lado da solução mais salina ou concentrada, revertendo-se a tendência natura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Neste caso, a água da solução salina passa para o lado da água pura, ficando retidos os íons dos sais nela dissolvido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pressão a ser aplicada equivale a uma pressão maior do que a pressão osmótica característica da soluçã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214200" y="1119240"/>
            <a:ext cx="8929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0" y="3854520"/>
            <a:ext cx="4680000" cy="25574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2190960" cy="15714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Botão de ação: Filme 2"/>
          <p:cNvSpPr/>
          <p:nvPr/>
        </p:nvSpPr>
        <p:spPr>
          <a:xfrm>
            <a:off x="3203640" y="2637000"/>
            <a:ext cx="2881080" cy="1368360"/>
          </a:xfrm>
          <a:custGeom>
            <a:avLst/>
            <a:gdLst>
              <a:gd name="textAreaLeft" fmla="*/ 88560 w 2881080"/>
              <a:gd name="textAreaRight" fmla="*/ 2792520 w 2881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72" h="21600">
                <a:moveTo>
                  <a:pt x="0" y="0"/>
                </a:moveTo>
                <a:lnTo>
                  <a:pt x="45472" y="0"/>
                </a:lnTo>
                <a:lnTo>
                  <a:pt x="45472" y="21600"/>
                </a:lnTo>
                <a:lnTo>
                  <a:pt x="0" y="21600"/>
                </a:lnTo>
                <a:close/>
              </a:path>
              <a:path fill="lightenLess" w="45472" h="21600">
                <a:moveTo>
                  <a:pt x="0" y="0"/>
                </a:moveTo>
                <a:lnTo>
                  <a:pt x="45472" y="0"/>
                </a:lnTo>
                <a:lnTo>
                  <a:pt x="44072" y="1400"/>
                </a:lnTo>
                <a:lnTo>
                  <a:pt x="1400" y="1400"/>
                </a:lnTo>
                <a:close/>
              </a:path>
              <a:path fill="darken" w="45472" h="21600">
                <a:moveTo>
                  <a:pt x="45472" y="0"/>
                </a:moveTo>
                <a:lnTo>
                  <a:pt x="45472" y="21600"/>
                </a:lnTo>
                <a:lnTo>
                  <a:pt x="44072" y="20200"/>
                </a:lnTo>
                <a:lnTo>
                  <a:pt x="44072" y="1400"/>
                </a:lnTo>
                <a:close/>
              </a:path>
              <a:path fill="darkenLess" w="45472" h="21600">
                <a:moveTo>
                  <a:pt x="45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72" y="20200"/>
                </a:lnTo>
                <a:close/>
              </a:path>
              <a:path fill="lighten" w="45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72" h="21600">
                <a:moveTo>
                  <a:pt x="15730" y="7301"/>
                </a:moveTo>
                <a:lnTo>
                  <a:pt x="16644" y="7301"/>
                </a:lnTo>
                <a:lnTo>
                  <a:pt x="17027" y="7667"/>
                </a:lnTo>
                <a:lnTo>
                  <a:pt x="26235" y="7667"/>
                </a:lnTo>
                <a:lnTo>
                  <a:pt x="26792" y="8224"/>
                </a:lnTo>
                <a:lnTo>
                  <a:pt x="26792" y="8772"/>
                </a:lnTo>
                <a:lnTo>
                  <a:pt x="28637" y="8772"/>
                </a:lnTo>
                <a:lnTo>
                  <a:pt x="29003" y="8224"/>
                </a:lnTo>
                <a:lnTo>
                  <a:pt x="29743" y="8224"/>
                </a:lnTo>
                <a:lnTo>
                  <a:pt x="29743" y="13376"/>
                </a:lnTo>
                <a:lnTo>
                  <a:pt x="29003" y="13376"/>
                </a:lnTo>
                <a:lnTo>
                  <a:pt x="28637" y="12828"/>
                </a:lnTo>
                <a:lnTo>
                  <a:pt x="26792" y="12828"/>
                </a:lnTo>
                <a:lnTo>
                  <a:pt x="26792" y="14107"/>
                </a:lnTo>
                <a:lnTo>
                  <a:pt x="17209" y="14107"/>
                </a:lnTo>
                <a:lnTo>
                  <a:pt x="17209" y="9877"/>
                </a:lnTo>
                <a:lnTo>
                  <a:pt x="17027" y="9877"/>
                </a:lnTo>
                <a:lnTo>
                  <a:pt x="16644" y="10243"/>
                </a:lnTo>
                <a:lnTo>
                  <a:pt x="15730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azer uma Pesquisa sobre as propriedades coligativas (0 a 5) e enviar no meu email: quimicopolar@gmail.com (não será aceita copia fiel da internet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Realizar um experimento em sala de aula (0 a 5) e explicar. (pode trazê-lo filmado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315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gua pura à pressão de 1 atm possui ponto de fusã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ponto de ebulição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quando adicionamos um soluto não volátil à água, o soluto modifica as propriedades físicas da água. Agora a água congela abaix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ferve acima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 Estas alterações das propriedades físicas da água devido à adição do soluto são denominado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feitos coliga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http://ceticismo.files.wordpress.com/2008/11/agua_pura.jpg"/>
          <p:cNvPicPr/>
          <p:nvPr/>
        </p:nvPicPr>
        <p:blipFill>
          <a:blip r:embed="rId1"/>
          <a:stretch/>
        </p:blipFill>
        <p:spPr>
          <a:xfrm>
            <a:off x="155520" y="-1861812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ceticismo.files.wordpress.com/2008/11/agua_pura.jpg"/>
          <p:cNvPicPr/>
          <p:nvPr/>
        </p:nvPicPr>
        <p:blipFill>
          <a:blip r:embed="rId2"/>
          <a:stretch/>
        </p:blipFill>
        <p:spPr>
          <a:xfrm>
            <a:off x="3000240" y="1214280"/>
            <a:ext cx="21909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O uso de aditivos, como o etilenoglicol, à água do radiador de carros evita que ela entre em ebulição, no caso de um superaquecimento do mo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Ethylene glycol chemical structure.png"/>
          <p:cNvPicPr/>
          <p:nvPr/>
        </p:nvPicPr>
        <p:blipFill>
          <a:blip r:embed="rId2"/>
          <a:stretch/>
        </p:blipFill>
        <p:spPr>
          <a:xfrm>
            <a:off x="4572000" y="5429160"/>
            <a:ext cx="4371840" cy="1141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thylene-glycol-3D-vdW.png"/>
          <p:cNvPicPr/>
          <p:nvPr/>
        </p:nvPicPr>
        <p:blipFill>
          <a:blip r:embed="rId3"/>
          <a:stretch/>
        </p:blipFill>
        <p:spPr>
          <a:xfrm>
            <a:off x="5786280" y="825480"/>
            <a:ext cx="2643480" cy="171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http://www.wolfracing.com.br/images/motocool.jpg"/>
          <p:cNvPicPr/>
          <p:nvPr/>
        </p:nvPicPr>
        <p:blipFill>
          <a:blip r:embed="rId4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-142920" y="612216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Aditivo do radiador: evita o congelamento e a ebulição da água que refrigera o motor do carr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os países em que o inverno é rigoroso, esse mesmo aditivo tem o efeito de evitar o congelamento da água do radiad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esses países, joga-se SAL nas estradas e ruas com acúmulo de neve para derretê-l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m verduras cruas com sal, as células perdem água mais rapidamente, murchando em pouco temp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285840" y="1684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ara cada propriedade física que modifica temos uma propriedade coligativa que estuda este efe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760" y="1857240"/>
          <a:ext cx="8572320" cy="219888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EFEITO COLIG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PROPRIEDADE COLIG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a pressão de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n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o Ponto de Ebul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bul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o Ponto de Congel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r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a Pressão Osmó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m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tângulo 7"/>
          <p:cNvSpPr/>
          <p:nvPr/>
        </p:nvSpPr>
        <p:spPr>
          <a:xfrm>
            <a:off x="500040" y="46432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Os efeitos coligativos dependem </a:t>
            </a:r>
            <a:r>
              <a:rPr b="1" lang="pt-BR" sz="2800" spc="-1" strike="noStrike">
                <a:solidFill>
                  <a:srgbClr val="0070c0"/>
                </a:solidFill>
                <a:latin typeface="Trebuchet MS"/>
              </a:rPr>
              <a:t>somente</a:t>
            </a: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 do número de partículas do soluto dissolvidas. Quanto maior for o número de partículas do soluto dissolvidas, maiores serão os efeitos coliga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Diminuição da pressão de vapor de um líquido, provocada pela dissolução de um soluto não-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solução formada por um soluto (não-volátil) em solvente é menor que a do solvente puro, pois a interação entre as partículas do soluto e as moléculas do solvente diminuem as saídas destas última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8:55:09Z</dcterms:created>
  <dc:creator>Marcia</dc:creator>
  <dc:description/>
  <dc:language>en-US</dc:language>
  <cp:lastModifiedBy>Moises</cp:lastModifiedBy>
  <dcterms:modified xsi:type="dcterms:W3CDTF">2010-08-03T19:12:07Z</dcterms:modified>
  <cp:revision>63</cp:revision>
  <dc:subject/>
  <dc:title>PROPRIEDADES COLIGATIV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